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2E404-EF42-42A4-A2FF-3D5649A63A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2A2A-EC9B-4DFC-B81A-9C4633C2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37B3-DE39-4417-B075-F0D943E6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7D5-84B0-4B89-A1DF-3392D7E8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BE0-7B3B-4858-921A-14DBC000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3CFA-E3BB-4D4C-92AD-5F96EAE1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571-0AC7-4BF0-BFD9-06EE8320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7ED-2106-4751-B3D5-89BAAE0D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039-FFFB-467C-9764-903BB7AA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C228-27C4-49BA-B93C-D1C4B788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749B-1F0F-479B-8CEC-4C95D2EC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C843-2A5D-4DCF-8997-A07E31E2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242D-558A-42CD-88BC-7A95DAA3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4C492-9E6B-4520-B1BB-0C9B093E23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00000" y="1554120"/>
            <a:ext cx="82407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(OBO) ontology is NOT a model of language, it is a model of re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ds are ambiguous – especially in isolation. Take the word 'wing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hat type of things have wing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irds, bats, flies, sphenoid bones*, planes, ca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(OBO) ontology uses words from natural languag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but constrains their meaning to some subset of their possible meanings in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raints are written into definitions and relationships between terms and refer to the scientific liter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the lateral process of a sphenoid bone is referred to as a wing (Henderson's dictionary biological term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20720" y="539640"/>
            <a:ext cx="864072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standardise the way we build anatomy ontologi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 we don't all need to re-invent the wh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ommon relations allows the development of common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st practice allows development of scalable and maintainable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ritten definitions make the reasons for graph structure cl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7640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=&gt; New editors can understand and build on the work of previous 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Reducing multiple inheritance makes ontologies makes avoiding true-path violations practic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7440" y="561960"/>
            <a:ext cx="9053280" cy="79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CARO is a standardisation exerc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n upper-ontology template to use for constructing anatomy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provides a bridge between anatomy ontologies and the basic formal ontology (BFO).  This is useful for putting constraints on re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natomical structure maps to BFO: object  and as such is defined as 'maximally connected'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distinction makes part relationships easier to define and avoids confusion with is_a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44400" indent="-2142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isconnected anatomical systems (e.g., immune system) are classified under 'anatomical group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79640" y="900000"/>
            <a:ext cx="88596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is a purely structural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s from the bottom up – on the basis of granular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 compo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ortion of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ulti-tissue structur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classifies structure from the top down – as subdivisions of a whole organis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rga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ppend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860400" indent="-21276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ARO makes a clear distinction between cellular and acellular struct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ARO associated standard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6948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A system for defining structures by their developmental f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2. A system for recording developmental tim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3. A system for recording part relationships which change over developmental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20720" y="506520"/>
            <a:ext cx="8640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539640"/>
            <a:ext cx="809964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build multi-species  anatomy ontologi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systems for cross species inference of gene fun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at do we need for in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development, differentiation of functioning of homolgous structures is likely to involve conserved genetic pathways – especially if the species are closely rel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319640" y="7148520"/>
            <a:ext cx="57592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e Niswander Nature Reviews Genetics 4, 133-143 (February 2003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480000" cy="46796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servation of gene expression and role in limb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181480" y="3236760"/>
            <a:ext cx="2210040" cy="1868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320040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152280"/>
            <a:ext cx="8186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y do we care about homology when building an anatomy ontolo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98640" y="990720"/>
            <a:ext cx="52074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Consider an anatomy ontology of vertebr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ranial skeleta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ietal bone (in_organism zebrafis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ntal bone (in_organism zebrafish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5272200"/>
            <a:ext cx="7543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mologous : frontal bone (zebrafish) and parietal bone (human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0960" y="342108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369396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0600" y="342108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7000" y="369396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791320"/>
            <a:ext cx="7483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Different genes and developmental processes may underlie the development of the zebrafish frontal and the human frontal, even though they have the same name and are similarly 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0" y="3268800"/>
            <a:ext cx="609480" cy="533160"/>
            <a:chOff x="4572000" y="3268800"/>
            <a:chExt cx="609480" cy="533160"/>
          </a:xfrm>
        </p:grpSpPr>
        <p:sp>
          <p:nvSpPr>
            <p:cNvPr id="106" name=""/>
            <p:cNvSpPr/>
            <p:nvPr/>
          </p:nvSpPr>
          <p:spPr>
            <a:xfrm>
              <a:off x="4572000" y="3268800"/>
              <a:ext cx="609480" cy="5331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648320" y="337320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58840" y="3944880"/>
            <a:ext cx="73310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w and where should homology information be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97000" y="1085760"/>
            <a:ext cx="725472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: Query for phenotypes affecting the human frontal bone and its homologous structure in other spec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35160" y="3009960"/>
            <a:ext cx="3574800" cy="547200"/>
            <a:chOff x="3035160" y="3009960"/>
            <a:chExt cx="3574800" cy="547200"/>
          </a:xfrm>
        </p:grpSpPr>
        <p:sp>
          <p:nvSpPr>
            <p:cNvPr id="111" name=""/>
            <p:cNvSpPr/>
            <p:nvPr/>
          </p:nvSpPr>
          <p:spPr>
            <a:xfrm>
              <a:off x="3035160" y="3009960"/>
              <a:ext cx="357480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Homolog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3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Synony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4678200" y="3170160"/>
              <a:ext cx="222480" cy="306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849320"/>
            <a:ext cx="84600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is not practical to write structural definitions which apply across many species and which apply to every structure in a homology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-  try to define parietal bone for all descendants of the common ancestor of zebrafish and hum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2920" y="306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should we not build multi-species anatomy ontologie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979640"/>
            <a:ext cx="846000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uctural defs across many species may sometimes be imposs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Z def: Anatomical entity with structural attributes, A, B, C an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X def: Anatomical entity with structural attributes C, D, E &amp; 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Structure Y def: Anatomical entity with structural attributes A, B, G &amp; 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-216000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volved_from structure 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BO foundry approach to ontology-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6600" y="1440000"/>
            <a:ext cx="857232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blem with relying on the 'self-evident' meaning of 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no definitions for the nouns, these two statements both have obvious readings which ar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ommatidium part of e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t, if we combine th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matidium part of eye part of craniofacial t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.. we can't get a true statement about biology, no matter what meaning we choose for the nou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ontology with thousands of terms and relations makes an enormous number of statements. Only by defining terms can we hope to avoid problems like th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1640" y="5940360"/>
            <a:ext cx="181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79640" y="900000"/>
            <a:ext cx="7559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27807" t="6670" r="33749" b="50008"/>
          <a:stretch/>
        </p:blipFill>
        <p:spPr>
          <a:xfrm>
            <a:off x="5686560" y="5397480"/>
            <a:ext cx="2209680" cy="18684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343160" y="5361120"/>
            <a:ext cx="3711600" cy="203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665680" y="5581800"/>
            <a:ext cx="247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333520" y="5854680"/>
            <a:ext cx="304920" cy="304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5581800"/>
            <a:ext cx="228600" cy="228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821720" y="5854680"/>
            <a:ext cx="416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76720" y="5429160"/>
            <a:ext cx="609840" cy="533520"/>
            <a:chOff x="5076720" y="5429160"/>
            <a:chExt cx="609840" cy="533520"/>
          </a:xfrm>
        </p:grpSpPr>
        <p:sp>
          <p:nvSpPr>
            <p:cNvPr id="125" name=""/>
            <p:cNvSpPr/>
            <p:nvPr/>
          </p:nvSpPr>
          <p:spPr>
            <a:xfrm>
              <a:off x="5076720" y="5429160"/>
              <a:ext cx="609840" cy="5335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153040" y="5533560"/>
              <a:ext cx="457200" cy="314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240" y="-360"/>
            <a:ext cx="90691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 definition of hom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71720" y="5543640"/>
            <a:ext cx="333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7462800" y="5510160"/>
            <a:ext cx="341280" cy="271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83640" y="5364000"/>
            <a:ext cx="333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6120" y="1117440"/>
            <a:ext cx="6500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X part_of some instance of species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Y part_of some instance of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instances of structure Z part_of some instance of specie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 is homologous_to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X derived_from some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Y derived_from some Z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is the most recent common ancestor of A and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140360" y="4319640"/>
            <a:ext cx="320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40000" y="4497480"/>
            <a:ext cx="1619280" cy="1085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4676400" y="4495680"/>
            <a:ext cx="2706840" cy="72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469440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9440" y="4500720"/>
            <a:ext cx="151128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d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term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02920" y="1372680"/>
            <a:ext cx="90694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ore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adult meso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indwing (MRCA Insect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Membranous dorsal appendage of the adult metathoracic segment of MRCA Insec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lytra (MRCA Coleo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Hard, chitinous dorsal appendage of adult mesothoracic segment of MRCA Coleo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haltere (MRCA Dipter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ef: club shaped dorsal appendage of the metathoracic se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f MRCA Dip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8760" indent="0">
              <a:lnSpc>
                <a:spcPct val="93000"/>
              </a:lnSpc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6040" y="6880320"/>
            <a:ext cx="66452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20720" y="1979640"/>
            <a:ext cx="828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endage (CARO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hind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haltere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(alae)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_a forelimb of MRCA tetrapo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wing of MRCA Chiroptera*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RCA = most recent common ancesto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? perhaps should be derived_from autopod?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360000"/>
            <a:ext cx="9069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homology based multi-species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3560" y="1260360"/>
            <a:ext cx="8416800" cy="45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ions within species specific anatomy ont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(Drosophila melanogaster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 from wing of Di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(Tribolium casteneum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rived_from elytra of coleoptera MR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mbined wi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orewing of MRCA Insec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wing of MRCA Di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derived_from elytra of MRCA Coleopt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s sufficient to deduce th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lytra of Tribolium catene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omologous_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ing of Drosophila melanoga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8892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soning hom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0360" y="1260360"/>
            <a:ext cx="822960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chael Ashb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abian Neuhaus (NIST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ula MaBee (U S.Dakota /cTOL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Jose Mejino (U Washington, FMA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ris Mungall (Berkeley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Melissa Haendel (U Oregon, ZFIN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Barry Smith (Buffalo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FlyBase; The Newton Tr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1681200" y="1619280"/>
          <a:ext cx="678024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81200" y="1619280"/>
                    <a:ext cx="678024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935440" y="100080"/>
            <a:ext cx="825624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erms in the Danio AO refer to ma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volutionarily conserved stru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1640" y="612720"/>
            <a:ext cx="8280360" cy="64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ey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names of terms in this anatomy ontology refer, in normal usage, to many conserved anatomical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the terms themselves refer to whatever their definitions say they refer to  - this is considerably more restrictive than normal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2374920" y="184788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27200" y="18986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79440" y="722160"/>
            <a:ext cx="2149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bian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558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27600" y="212724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00760" y="19350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72560" y="19350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73440" y="3360600"/>
            <a:ext cx="1573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13000" y="357516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113440" y="2432160"/>
            <a:ext cx="13809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35120" y="266076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8440" y="2279520"/>
            <a:ext cx="5331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36840" y="4071960"/>
            <a:ext cx="60948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07160" y="2813040"/>
            <a:ext cx="1499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rives_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65560" y="43513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8600" y="15541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91320" y="186516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7840" y="4870440"/>
            <a:ext cx="2155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-like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d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4200" y="5135400"/>
            <a:ext cx="359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stion, what type of thing is a limb-like th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492200" y="6281640"/>
            <a:ext cx="5613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The forelimb of the most recent common ancestor of the tetrapoda.  (attributes .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60360" y="1979640"/>
            <a:ext cx="7726320" cy="34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recording homology -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Capture pairw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n species A homologous_to Y in species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dvantage – homology of X and Y to structures in species C, D, E F .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ust be captured separately =&gt; v. many homology stat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Capture with reference to some central multi-species ontolo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is_a fore-limb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X derives_from fore-limb MRCA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 (specified by definition + relationships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00000" y="969840"/>
            <a:ext cx="7380360" cy="58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s of term ambigu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arly stages in spermatoge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ineuri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flipV="1">
            <a:off x="2590920" y="1283760"/>
            <a:ext cx="4038480" cy="234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133524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3600" y="380880"/>
            <a:ext cx="1421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vid’s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718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5638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6400" y="137160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88560" y="137160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89440" y="27972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3011400"/>
            <a:ext cx="380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66960" y="1868400"/>
            <a:ext cx="21430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670120" y="20970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7161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3621240"/>
            <a:ext cx="609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Symbol"/>
                <a:ea typeface="Symbol"/>
              </a:rPr>
              <a:t>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41920" y="232560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81560" y="3787920"/>
            <a:ext cx="41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24600" y="99072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91320" y="76212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98760" y="4381560"/>
            <a:ext cx="27777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omology group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32520" y="4411800"/>
            <a:ext cx="33523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other structur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dinal organism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s_a 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17480" y="301140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25360" y="5742000"/>
            <a:ext cx="6960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 – 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f: An anatomical structure derived from the 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most recent common ancestor of the tetrapoda (attributes...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 flipV="1">
            <a:off x="2590920" y="1208160"/>
            <a:ext cx="4038480" cy="23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43200" y="1258920"/>
            <a:ext cx="1905120" cy="11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282680" y="457200"/>
            <a:ext cx="3871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sh group idea (may not be current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148752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6400" y="129528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388560" y="1295280"/>
            <a:ext cx="991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e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84520" y="2935440"/>
            <a:ext cx="598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3087720"/>
            <a:ext cx="381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58960" y="4002120"/>
            <a:ext cx="5010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forelimb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is_homologous 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li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NOT homologous_t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wing as 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424600" y="914400"/>
            <a:ext cx="61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1320" y="685800"/>
            <a:ext cx="674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68520" y="1682640"/>
            <a:ext cx="2057400" cy="125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38240" y="1301760"/>
            <a:ext cx="5601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1792440"/>
            <a:ext cx="380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7640" y="1643040"/>
            <a:ext cx="648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109760" y="1487520"/>
            <a:ext cx="16095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41720" y="9540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052720" y="1563840"/>
            <a:ext cx="92376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84320" y="1639800"/>
            <a:ext cx="1738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98880" y="5029200"/>
            <a:ext cx="2629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CARO/multi-species 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wing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bi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-i-forelimb-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d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791320"/>
            <a:ext cx="761760" cy="533160"/>
          </a:xfrm>
          <a:custGeom>
            <a:avLst/>
            <a:gdLst/>
            <a:ahLst/>
            <a:rect l="l" t="t" r="r" b="b"/>
            <a:pathLst>
              <a:path w="248" h="240">
                <a:moveTo>
                  <a:pt x="0" y="0"/>
                </a:moveTo>
                <a:cubicBezTo>
                  <a:pt x="116" y="52"/>
                  <a:pt x="232" y="104"/>
                  <a:pt x="240" y="144"/>
                </a:cubicBezTo>
                <a:cubicBezTo>
                  <a:pt x="248" y="184"/>
                  <a:pt x="80" y="224"/>
                  <a:pt x="48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5943600"/>
            <a:ext cx="4876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mologous_to at level of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imb + evidence + 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441160" y="3124080"/>
            <a:ext cx="1143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etrap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440000" y="1260360"/>
            <a:ext cx="784224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roaches to capturing homology – data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O 1.2 format does not allow references and evidence codes to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tured for relationships, although OBO 1.3 w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fore – there is a good case for capturing this information separatel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flat file (tsv) for now.  This is what the nescent/cTOL project is do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same argument applies, no matter what the re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70000"/>
            <a:ext cx="906912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BO 1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1640" y="1649520"/>
            <a:ext cx="4699080" cy="55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28760" indent="-324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a classification of things (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in the real world, based on some biologically significant simila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in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ightforward - each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just one th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y left index finger is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y left h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ationships between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there can be many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instanc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 the wor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es a relationship between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yp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pply to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just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se instanc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724360" y="971640"/>
            <a:ext cx="3581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270000"/>
            <a:ext cx="9069480" cy="11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sic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8200" y="2340000"/>
            <a:ext cx="1810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60720" y="1136520"/>
            <a:ext cx="5940360" cy="552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61960" y="539640"/>
            <a:ext cx="69944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hy we build anatomy ontolo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20720" y="1440000"/>
            <a:ext cx="8459640" cy="48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in use case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notation of gene expression and phenotypes (MODs and other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is need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1. Terms with written defini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consistent annotation despite variant usage of terminology in liter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. Careful use of logically defined relatio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=&gt; allowing annotations with related terms to be grouped in biologically meaningful way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case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 controlled system for recording character matrices for use in homology calls (cTOL/Nescen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979640"/>
            <a:ext cx="6562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axon tracts which are part of the adult midbr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471760"/>
            <a:ext cx="6035760" cy="2927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000" y="5580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0120" y="6300720"/>
            <a:ext cx="4619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79640" y="733320"/>
            <a:ext cx="56196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uping annotations using an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0160" y="1800360"/>
            <a:ext cx="6508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QUERY: list all neurons which develop from neuroblast NB 7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0360" y="4859280"/>
            <a:ext cx="1440000" cy="1079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40000" y="575928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73720" y="6119640"/>
            <a:ext cx="36259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alleles causing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0120" y="6659640"/>
            <a:ext cx="46195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st all genes expressed in these struct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9120" y="2340000"/>
            <a:ext cx="5959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